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A7BB-3948-4B9C-B951-064650B9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32C0-BB8D-4873-8C25-ED03EF2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C26D-F42B-4A27-B106-6D9BB18C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5DC9-2D82-4204-BAC9-AE90801D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9CE9-1A1E-4F7E-AF89-BAD03933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DE4-6087-45EC-9F92-360C37A7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0CC8-5647-4B65-A141-4F54D63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FEB6-834A-4A56-8E7D-3AC8C087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9AFB-5267-48E7-912F-C396D55B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E43-B859-4886-98D9-DBD062C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356-5BAF-4759-8A6E-FC89904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27DF-C909-45B4-8792-D073158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51A2-883F-4B44-BDBF-5C5138F3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9751-19B3-4F86-80A9-A567BEAC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569D-7490-46AE-8345-26B81C00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996C-C728-4323-B183-DDAD89F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C2B9-0539-4D39-94BC-DBD4B37D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11C0-174E-40C5-92F0-01AA0BC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B167-1C06-42E6-AA9D-E8DF1A87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54E7-FFB1-4B2C-8F82-9B5E75E6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325B-2045-49A1-ACAD-AF6BC80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DF66-0C14-4213-821B-28F5E7A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2737-DD39-47E7-83E8-C92A8D2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6F2F-0632-4EA8-B443-7DA8F4B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A570-F565-4C34-8FD5-F945E1C70938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CC5-7B89-44C8-B32A-DF937B960248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Major approaches to ELT-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uitability of TBL in the Hong Kong’s School Contex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55560" y="4060440"/>
            <a:ext cx="545148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n Ching Yi 1040128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ng Wing Ka 1040602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n Ka Man Mandy 1040125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ole of teachers in TBL </a:t>
            </a:r>
            <a:br>
              <a:rPr sz="39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urriculum Development Council, 199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learners’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best possible conditions for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dominate classroom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e the lear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feedback tactfully and posi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learners in the groups should be given recogn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tudents’ perspectiv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(a). Do you like to learn English by TBL? Why? Why not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(b). If no, what is your preferable way to learn English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50920" y="836640"/>
          <a:ext cx="8713800" cy="5772240"/>
        </p:xfrm>
        <a:graphic>
          <a:graphicData uri="http://schemas.openxmlformats.org/drawingml/2006/table">
            <a:tbl>
              <a:tblPr/>
              <a:tblGrid>
                <a:gridCol w="2520720"/>
                <a:gridCol w="6193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L               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V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Ss’ persp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 have to take initiative to complete the tas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pas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tivated due to repetitive failure in learning Engl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hasize grammatical form in the post-task s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 to learn grammar in the pre-s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r is not the focus, but 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input before and during tas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icult to motivate below-average students to spe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hasize fluency instead of accura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cy is counted in public ex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 oral wo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ing and writing count more in public examin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hasize on group work and oral wo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use of the mother tongue in discu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 task easily by chit-chat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no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productive with higher achieving 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L from the perspective of students_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836640"/>
          <a:ext cx="8713800" cy="3487680"/>
        </p:xfrm>
        <a:graphic>
          <a:graphicData uri="http://schemas.openxmlformats.org/drawingml/2006/table">
            <a:tbl>
              <a:tblPr/>
              <a:tblGrid>
                <a:gridCol w="2520720"/>
                <a:gridCol w="6193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L               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V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Ss’ persp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s of tasks; module lear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-40 minutes per lesson, 8-10 lessons per week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 cannot keep their attention throughout the tas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earn through tasks in long timefr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-orien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al exams are traditional in form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s been learnt by TBL seems not that directly to-the point, seems not to learn anything concre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class si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 space in the classroom; not bother to move and form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L from the perspective of students_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perspective of school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6160" y="1981080"/>
          <a:ext cx="7010280" cy="4114800"/>
        </p:xfrm>
        <a:graphic>
          <a:graphicData uri="http://schemas.openxmlformats.org/drawingml/2006/table"/>
        </a:graphic>
      </p:graphicFrame>
      <p:sp>
        <p:nvSpPr>
          <p:cNvPr id="142" name="矩形 3"/>
          <p:cNvSpPr/>
          <p:nvPr/>
        </p:nvSpPr>
        <p:spPr>
          <a:xfrm>
            <a:off x="500040" y="135720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(a). If yes, how do you implement it or support the implementation in your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(b)  If no, what are the other preferable implemen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iculum Development Council. (1999). Syllabuses for secondary school: English language (Secondary 1-5). Hong Kong: The Government Pr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Carless (2007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suitability of task-based approaches for secondary schools: Perspectives from Hong Ko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is, Rod (2003). Task-based Language Learning and Teaching. Oxford. New York: Oxford University Pr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wood,W. (2007). Communicative and task-based language teaching in East Asian classrooms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nguage Teaching, 4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3), 243-24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uiding ques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achers’ per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(a). If yes, what would you do to facilitate it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(b). If no, what do you prefer to implement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udents’ per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(a). Do you like to learn English by TBL? Why? Why not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(b). If no, what is your preferable way to learn English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spective of schoo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(a). If yes, how do you implement it or support the implementation in your scho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(b)  If no, what are the other preferable implement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efinition of TB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communication of meaning rather than study of grammatical form as the starting point for learn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han’s  (1998) concept of TB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is pri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unication problem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ort of relationship to comparable real-world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ssessment of the task is in terms of out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arning process as a set of communicative tasks that are directly linked to the curricular goals they s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pularity of TBL in East As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0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98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t model – C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n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7 countries in East Asia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cribe to principles of CLT and TB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ng Kong, China, Kore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ilippines, Indonesia, Japan and Thailand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‘learning through task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BL in Hong Ko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99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Development Cou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97 for primary scho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99 for secondary scho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es not seem to be firmly embedd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value and beliefs of teachers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congruent with the principles of TBL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the learning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the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se general communication (unfocused task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mmunicate using specific grammatical structures (focused task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these activities come early in the teaching cycle, to be followed later by work on the language syst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L is usually use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ormation gap activities, sharing information or giving views on a top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14520" y="1945800"/>
            <a:ext cx="8629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LESSON ST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lass / group discussion led by the teac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ou may need to adjust the difficulty of the task to the level of your stud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t-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Teacher led feedba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Teacher summarize and introduce the language fo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nguage Foc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ap-filling exerc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ecall exerci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rolled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earners produce sentences based on target patter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Patterns are repeated to facilitate ret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908000" y="47628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using TB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ifficulties in implemen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tudents may depend on their groupmates in the group wor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earning may yet be lost if the lesson did not include sufficient plan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mplement where classes are large and space is limi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atibility with public assessment dem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may stay within the narrow confines of familiar words and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eachers’ perspectiv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2(a). If yes, what would you do to facilitate i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2(b). If no, what do you prefer to implement?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5:02:26Z</dcterms:created>
  <dc:creator>student</dc:creator>
  <dc:description/>
  <dc:language>en-US</dc:language>
  <cp:lastModifiedBy>user</cp:lastModifiedBy>
  <dcterms:modified xsi:type="dcterms:W3CDTF">2012-02-08T10:34:21Z</dcterms:modified>
  <cp:revision>34</cp:revision>
  <dc:subject/>
  <dc:title>HKBU_PGDE_Seminar_ presentation</dc:title>
</cp:coreProperties>
</file>